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A70-D279-42C2-B4BB-5A700629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03E-D76A-4121-9E80-238915D1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76725-F046-4987-B9ED-561321A0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1C484-7139-4A19-B3DB-C8C00832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7AB3B-2FEC-42AA-A4FD-FC194104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B107A-B17D-4733-A781-1981454B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A8EEB-8D73-42AC-95FD-03EA4C98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185F0-517B-41BC-86A5-2F42C3B0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41426-49A4-4BF2-A846-29480E54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25F96-2204-439D-BFD9-0512F71C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6F98D-151F-465E-925A-6816670D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7CC89-8AAD-496D-897B-FA246851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6EC-0901-4A45-94CF-1EA56F2B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056E8-61F6-4355-B308-65B21BA6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BBB5C-308D-414A-B8C6-FF02B9BE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F3649-ECB2-486D-9BF3-AC395C6E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DF1EB-3EAB-49A1-A4F5-A3DAD9C9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D7C23-59F6-4FA7-90EB-AD89DB29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02CC6-71F4-4BCF-9A58-F5C6178B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62EC5-753E-4D40-AA65-B1B3AC9B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B76B6-EC1F-425A-810E-5F1438C6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1A99C-A88B-4720-A9EF-AA451E27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CFB99-FF48-43B3-A62E-FA62AF2F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98E-150C-44D3-9BC8-4007C2F3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6A7D0-B0A6-4FEC-8277-D019F7EE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0AD41-22E8-48FC-B4EB-4EB50809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B6D6A-98E9-4196-8C22-53444094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132EB-7D80-4CC5-9A72-79AA0E38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8E2C2-69A6-4377-A89D-3CDF766F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A3130-6A87-4F18-9889-5E452FBE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EA007-EFC9-4649-BBDC-E02EA180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85A55-A1B8-45B2-B448-026FFAD6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69935-F1E0-482B-9801-DACBD1D1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4B29F-3233-45D1-BCD5-7C2C39C2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9F75-F644-4C9D-968A-4A10661D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A7E00-F9EF-427E-A887-F3B2A1D0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F7419-C75A-49C9-9283-FC2BB1F4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27868-D225-4D3D-8D40-695CEBEC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CE3F6-D1C1-4DF6-9B67-3F00C699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9A536-63A4-4E4E-9C6C-F2F6AD8E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A694D-3403-46D5-AB01-537771D2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1823A-3D93-405C-B300-60AB70F8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ED8DF-30D8-4821-8C9D-38760A33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E53D7-D681-40FF-B1DD-E3AB2EB0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3F285-3559-4D7B-93BE-B4C1ABD5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404A-D95D-4E21-9ED8-1780A660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DC123-B0A4-4932-AC31-FC074E3B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FA5DC-455F-4ED1-A164-4468E21C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8DE33-48A8-407C-91CB-D6B6A322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1A72D-4BF1-4E56-8974-181810A5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95938-330C-4CE2-9CDD-64BEEC2F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F9ED-A291-4241-8C0D-48F0F67F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F377-AE11-4E0F-A432-793087ED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E3F2-4C0C-4EA5-8D79-7CE0CDC8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836F-BB6B-444A-8AA3-36BB4A65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A17F-81CB-4CCB-A5B5-391F0A01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713-4260-4394-B19C-042F2A3F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D388-0EEC-47C8-806A-40CE742C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0BC1-659F-4A91-8B4B-9BF2AB4E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BCA9-BE59-4777-9B92-7EA9B412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EE5D-89EF-444E-8A6C-112C7D1C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22A7-DE11-4BE3-9F4A-0AF8C562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EDCE-80F7-4B7D-88FE-C259B67A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17C5-C159-41DC-BC5B-D2E675F6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43F3-42DD-45C9-AF54-B96BCE83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9B014-2DC4-4CD0-9F17-0341EC6B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230CF-D83B-47DA-9219-AD6C76E9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D2D-ACD6-4D81-B690-3A4A9F12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5D7B-1B5F-4318-B81E-E6F409C3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1F119-0C55-4D3E-9690-07468F69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AE4ED-F9FD-4DEA-9DF6-2D9C56F1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A5851-7FAD-4A11-9558-320B4F78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0C21A-810C-4AAA-B9CA-45897069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8DAB5-97FA-45BE-AD61-69A8896A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DF7DE-69FE-4FB5-9E97-AED07299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43E69-5C37-4742-800F-13ACDF4C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49F22-CA0C-45F1-B087-5D56A641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266E8-47D1-4752-B585-AFBD1002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98C-35E0-46C1-BE09-7F3CD459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1DAC9-88C8-4442-9A96-3508955F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4A21B-0751-4C74-A49C-BA17F0EE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4CA49-2C1E-465F-9D63-473349F6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7ABB6-5F3A-4F5C-9870-FFC2A1D5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D0ECE-F962-4F5E-BAFF-4E824764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5E3EC-85D2-454B-90EE-43786E05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E85FC-DA36-412B-9909-45D7E057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218A5-EE35-4F07-BF81-CAEBD19B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25189-F9A3-4065-A938-7F599337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18505-8734-4CAC-863D-5E2A3729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EEB-D66B-481D-A438-4EE695D2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757CF-C6A0-47E5-8E5A-3FBA278A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77EB9-37BC-4249-B434-3EB9FDAE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125AD-1D10-49F6-BD17-5B43822C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E9E36-52B7-4F6E-AEF6-C79EA858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28289-CE4B-4B61-B468-3C663B07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44FCA-458B-41DE-B53F-C17CEB01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39DD3-938D-44F4-AB7C-703C0CD7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D7EFF-303F-40C1-AF55-E74469FF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AD2F-EF3C-413F-95D8-42E5D6A0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53FA6-B75B-44ED-AFEF-871CBFDD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74E-5BC3-43D6-AD38-9FE29EA7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4F809-67E3-44C6-AB70-E175CBD4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F382C-ED8B-4B38-AC12-FF845819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83C4F-FF0A-44DB-B943-7F67DDFE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99E2E-4FBA-4DC7-8DB4-D31E9E4B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9465E-749C-48EC-9A04-9A3E3B29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20D25-3C63-45B5-824C-C6E2F8B3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1AA25-CA50-4000-8133-F13452A6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09B8C-C8F0-409E-89B7-A49E7B2D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64D1A-E9C2-4831-9436-B817A9DF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E6DDB-5727-4314-B5FA-B68CAF6C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090-C336-4D68-B50B-FA39AAEE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5FD81-EA42-48FA-8716-15139015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061C4-B68F-4AF1-9517-DE52DE28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6CF48-33DD-4AB6-B6A2-610352F4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83AE7-EDD7-4DD5-B7B0-4568EE6C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EA3D4-C385-4CC7-8052-007A9AAE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DCC36-1FFE-467E-B4F7-41B6E3F1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C930C-10E2-400E-BD65-0D927FA2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F828C-2A6F-465C-9FCD-15C6ED14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AE4D6-C3BB-4DE2-9780-973E3624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80949-C5E2-463E-B200-4CD06D89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E38-6D7A-4FCA-866E-48D03D08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DEC51-2381-4D9D-B52E-99E58B42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485F3-1606-4929-8B21-B4AAFAF6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21235-BBFE-46DF-A31D-CCCF9324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8488C-9FD2-4E75-B62A-D29EC7C4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205A0-D3DB-4B8B-9638-195370E3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3D425-A504-4271-8DF0-4C39A5BB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1FB67-8417-4B9B-8AE3-E49A8BCE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9FF61-BAB9-4E9E-9E18-88A9BEF9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7F44E-D089-4F2C-ADED-472A8E19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F02B6-7DAB-495B-A469-7C4E9F8D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4EE-BF17-46F3-AE1D-88A9E659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9033F-CDF2-47F3-85A7-BAD54982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8AB24-A785-4335-A42C-A936669F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44805-97ED-4FB3-B52A-80D6FEE5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9B752-93CC-44A1-BFEC-F758145D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70570-574B-468E-80D5-D2027B06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E31FC-D413-4115-9D4D-3DE8A7DE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87C59-6673-47D9-82A5-10F3BCDD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6D892-41CB-49E7-B190-7CD676D5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BCF22-1BB6-4145-9E82-C860A7DA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223C1-10F5-4014-9F5A-344D8D6C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3893-55E4-4454-ACA7-31B5E16ABC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15E8-7D78-4663-9411-927A973F94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AF74-DBE6-490E-99AF-93C2C66780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31A0-CE67-4C85-A836-6411642264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7672-EAD1-430D-85EA-970E033088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E326-AC96-481E-8D61-666E68EBA7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48FC-B08E-4BB7-82F5-107E8DF89A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C4B8-F94D-4900-B927-42C16D86C7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0724-8B90-4A55-805B-5A9C189285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F307-13A7-4F0E-9AB0-9E1DF475693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7BBA-C538-47AD-B7EE-2ADA4EE236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8BD9-1092-4032-B756-C8494BF7550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2 Ty jediný všemoc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si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jediný všemoc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si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svetlom a sláv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priodieva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Stvoriteľ svet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život si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ať v pokore chceme 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bete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prediv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múdrosti nedostiž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vševládn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láske vždy spravodliv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základ v nej len m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večný tvoj tró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hriešnik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kríža znie milosti t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ž dosiaľ tu prevlád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rti moc zl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r každý len krát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as života m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y klíčime, kvitn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k steblá trá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y sám sa nemení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smíru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v odvahe vie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 chceme sa vzn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anjeli v úc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 vzdávajú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smieme raz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asnosťou nespúta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teba sa postav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menení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40:07Z</dcterms:modified>
  <cp:revision>27</cp:revision>
  <dc:subject/>
  <dc:title>Je veľký náš Pán, on slávy je Kráľ Nech do všetkých strán  spev vrúcnych znie chvál.</dc:title>
</cp:coreProperties>
</file>